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75E-5FE7-4A3F-89DE-EC971A27C342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748-A180-4E78-A597-D703DB8250B1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1303-A036-4871-85E6-D1D872B9AC78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FD76-6846-4624-B3A0-94BBF16A3107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2CD-4318-4C50-9813-15562EF5D509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FFD-E2F7-434A-9A26-21888DF3C865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637A-7838-4F3D-9D43-A2B33EAF08AA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ABE7-F169-44A3-9EC8-B2EF3577B354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4A08-A550-4922-998B-36F1B6B4FD7F}" type="slidenum">
              <a:rPr b="0" lang="en-Z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78A-AF0C-4E94-B39C-D2DBF2F5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5109-3122-4FAD-BBF9-EBDC4375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7C480-D70E-45AA-8E8A-65A1856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8941-0064-4EE0-9961-57CE688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37F6-8DF1-4247-8E4F-BC503445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ED683-8899-46D1-902F-E55C40C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2C634-9F16-4020-AEB8-F99CD84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99545-B45F-4166-B802-628BCBA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F4BDA-6FF9-4484-A285-C5F480F4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97DEA-D04F-4021-A300-AD8DFF37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67308-5603-4C47-AFB9-9F84194A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AAD28-0B1B-48BD-8DFE-9D49E1D5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0B9-3B27-4EDF-95B9-124D2FF5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57D22-286C-4F81-8730-3E6FABB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8C9EB-2260-4022-830C-E989A134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7B6CF-6984-49F6-9D6A-BA901F06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31B8E-C3BC-4713-B890-65EC9B8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E3FB8-39EE-4A3E-BC1D-2FB93A0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5FF06-63DF-46B7-8F7D-CDFBCE0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32165-FD5A-4D3D-AEBF-3C61969E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F722C-98F7-4080-82E6-C83A697F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79C5-530C-49DE-989E-D758FF61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925C2-D5C9-4F65-A41B-94F172AF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5AA-B557-4F0C-8AAF-DF8B6D79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A4261-92B9-49DE-B2A9-49440EF4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60BE0-AF51-417C-AA34-C25372A9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D298B-3913-45D3-BB5D-0E4EA132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0735C-96F5-407A-BC3A-3F5134F0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E21C7-8548-4185-94B1-1C548F9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9D2AF-6324-4DDC-87F3-2FCCB78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C35AC-20EC-4327-98E9-9C0263F7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C2B98-B8E4-4F1A-8B28-1A9ED6E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0711B-6C2D-4878-9F82-872FA8D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AC652-15C0-4646-808C-2BD0213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127E-F84E-4D5A-887E-D89E5514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3E70-4537-4344-BEBA-BB8A6D7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36F22-A57A-4A34-8DB9-98A11509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DDB90-04C4-4C20-A4C7-7251F4AB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A5A76-E139-4634-AA4A-EF88F266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C11E3-85BF-4391-9116-7EA23C5C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215F5-A638-460F-8B5B-15217484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356C4-5586-4EB5-A30C-DA289E63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7EFC5-8AF0-47DB-B1A9-A941CB3F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1804E-01DA-40DC-9C1A-1F692102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C5CB1-F221-408B-8F0C-A99FF8CD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60D4-032D-4434-8484-6AB17254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4B207-F081-4BB8-90F4-EDFB2B6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D15CD-5554-431C-A86C-4250AEB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8B9CE-F1BB-4292-9BD6-3CEF414D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8AA09-71FB-4891-A141-B4E17081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3D101-6B7E-435D-BA95-A4C6B8D2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A2167-239E-402E-B80C-673BE828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52388-C13F-4622-B2A6-CDFDC0A7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D900B-6001-4AA2-9248-C207EDB0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D2E40-5445-415C-A757-D83AEFE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5FA0A-59B6-4712-8077-286B1E6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5F91-13E8-4D89-9CB9-E4B6791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18E43-4E30-411A-A815-BECE54D6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99CF4-9277-4515-9C8B-AB3D6C2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409E3-E698-4422-80BD-43A519F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FFE8D-3A17-4AB4-AFDD-CA24F920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CF62E-0A86-4D5B-A840-231C3D1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C9538-2CA9-4E7C-83A2-3E18CBEE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7DE99-838D-4B25-B6D0-27446504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72902-CEA3-4B61-8199-EBF861C1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D6EC5-736E-4E07-85B9-FCC7CB0C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56899-CAA7-436E-8B70-DDC874D0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030-FDC3-4021-9CF0-E277C4A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F91D4-95BD-4E88-B916-59A58001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0FEFB-765D-43E9-9794-A56E174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191C5-5E45-48E8-AFD0-2A412B6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B981F-6E3E-42ED-9CD2-D6A4286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DA452-FF62-4D56-B903-4D860C2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CC401-BEC2-40FE-955A-7F0E9522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0ACCC-03B4-494B-8CB0-B7B6142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0A037-D5A4-4EE8-B769-0FA2E7E8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3211E-939A-4214-A5AD-E2F346F9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0418D-0C43-4D3E-ADE9-3AE3AC6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1754-41D4-43B1-95D8-F4ACF6DF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3CD74-ECD5-4A7A-B71D-1B12AA69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A711F-99F9-46E5-9C95-C38E024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4B37E-A176-4C86-9FA9-8E5F1DA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106F8-5264-42B2-B625-6121C38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F12DC-8A9F-46EE-A646-5C958D6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51108-35B8-4433-B4F4-9F7C752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C704C-3813-4DEC-A07F-F5301EC2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47E27-BDE6-441E-9AA8-3BAB087C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BF4DF-72B2-4D7D-91BC-592F8DBE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4BBCB-3421-4F28-8596-395C5A1F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489-D2D5-459A-82DF-4AF24CB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F16D1-11EB-42A4-83D0-C4A7FF45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624C-FE86-4D98-A466-466D6D6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682-12D7-4235-A174-2E4807D0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CFDE-C574-4A96-B067-899CAF4E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74E8-BBD5-488A-8AF1-BCC59BC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8E0-48CB-4264-96DE-CF966A72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6432-F724-4ECD-8C63-857E54D4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F554-7D1C-4768-9861-846D8AA6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3C6F-A4B1-41CA-8D9E-3ECDDB54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EFB20-8932-466F-8841-7C4A837D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CDFE5-7F33-43BB-A212-210979E6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44A9-26B6-4FE5-B517-96A8F89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1221-4890-408B-936B-E905A969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136-7FD9-4F33-A6CE-665482E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77C6-D82A-4425-9017-C1139EA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55AF-E5D3-4855-97D6-2AFC78F8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203DA-E1BF-4291-957D-E8E8AB7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64BB-887A-44F5-970E-3B0AAAD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D7C4-D608-45D5-9B2E-35E02538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8AC0-0E31-485E-BE24-D53CB4F8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3233-8689-4F39-90D2-648B4BED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5F16-DD41-416D-9C7F-5ECC3F56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882F-C4B9-42E4-AC06-F7D7AEAE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85D0-20B5-4F22-9B44-D28D97B7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B13-213E-448B-9260-7A011A00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986FD-142E-4A19-80E0-0F15579F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4ABC-5AE8-4AA4-B02A-4C79A50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C6B34-A99F-4E3E-8397-72C6038E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9CCE7-DB02-43D7-A3C4-33A9F51E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6DB03-EAE9-4052-97CC-E4106F8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EB7F-B335-4A6D-A6D9-3E38278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367D0-4410-46D9-AD82-E811155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0B92-423B-4EE4-90B1-8E2D27FB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DC48A-24C5-4E70-9607-9136E441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022F0-4FD9-4CBE-BCE1-6D018058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7B27-E825-46F6-9851-A7DA494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5323-B202-4C64-9BD3-C3E18135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82709-389D-416D-B919-DC4D82E0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EA2B-FAA1-4A78-AF84-520F6AE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E8B64-5F01-454E-845A-63DF6899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4CD4-158A-4E71-87B8-33369811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BA76-B090-4728-99DE-9A38404B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0A429-D8B3-4D02-8144-29459DD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16DB-D1A4-4CC4-B6E0-4E48786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AC08-4770-43A7-8582-BA5164EE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52A6-9311-4808-9B83-C1B0134B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192-7F72-4660-A6CF-B4986319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D7AC9-873B-4103-B93B-75F7AFF5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3C587-F368-4941-A027-87ED59DF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5B27-2453-422D-8559-64AD1B87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7E0EE-7B50-41E8-BF1B-E849A809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17F4B-872D-4381-B2A7-C25D811D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260C-8E17-4C5C-8CD8-83F0CECD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1178-3730-4835-930F-FFF4D2F7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8BD1-0A66-4DC3-9128-2B810FD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C4AA-D295-4B86-A041-F435467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E1ABC-306B-4972-AA31-EA9B6BCF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AC9-546E-42C7-9819-118F9F2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0F05-9CB4-465D-B8AF-A49FA68B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5A62-FA9D-4EC3-BB82-D9EE9850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5A1C-1309-49D7-B3AC-87F92439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6FA3-D3CE-4978-B40F-B90C14DD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DEBBB-96D8-41FC-A1FA-D05B2C08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47E49-E105-453B-9E2B-0D14597D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42F9-C621-463D-8293-0F3F1CD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452D-6B10-4A64-8510-152D8918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B995-A870-4A70-9BAB-3CFDF53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9A00B-D00B-4030-B783-C8161B3D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32E-AA2F-4D4B-8B81-F69DCEB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1548B-0D63-4FAF-A230-E320DB1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201D-94CF-4D70-B130-2144430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31383-9D67-4988-BA73-1814FA31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B43E-3B54-48AA-A70F-FF76A0A8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0725A-9E50-4B67-869A-5D3AC426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E2C6-9470-4600-8210-B9721B3B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1F9B3-4B73-4555-9BC9-10C79C3B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6249E-F30A-456D-9893-4731309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5936F-BB70-4C0B-9C8A-9D13A62D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CC4B-E3B5-48B3-BA0A-A23823D6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588-49C4-4360-98C3-24A98FFE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F9B3-57F7-44EF-A0E6-CBEA9ABA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39DB5-A6EC-4D4A-A6B6-6457288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1B766-8404-4124-8BC8-CE18095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B8675-C37C-4059-9D5A-890909D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A95C1-24ED-4E3F-B62F-0FB6572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8466-80D9-4CC4-9E1A-6D4E7CCC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21A4-1D0D-4F84-B759-3EF31467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21DFA-3E4D-449D-9384-27360811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8F3A2-D47B-4102-9332-F087CCB2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422A2-78C4-4FF5-863A-A3970B60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EB91-EB62-48EC-AC2D-514219F6FE2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A2DC-CAEA-45C6-B760-2C061547DA33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7717-9065-4ABD-AE66-8B541297D62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2938-FDA6-4938-93BA-616539A12EC8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78A8-FB2B-4744-B60F-110AFA29AF8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2777760" y="6356520"/>
            <a:ext cx="356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DBCF-7F2A-48A0-951D-08D53290688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0C4C-F826-4439-BD7A-C3C2CBB0573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2793960" y="6356520"/>
            <a:ext cx="356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A224-B767-4DAF-ACDF-02E84014D0C2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7"/>
          <p:cNvSpPr/>
          <p:nvPr/>
        </p:nvSpPr>
        <p:spPr>
          <a:xfrm>
            <a:off x="79200" y="1639800"/>
            <a:ext cx="9144000" cy="346248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8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64F5-CF7C-42E7-9E70-044B91EC1DD5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2760840" y="6356520"/>
            <a:ext cx="3622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E3E-91EF-4407-98F5-DEDE760CF297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818E-08BB-4ECC-B12F-1281FD774526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2768760" y="6356520"/>
            <a:ext cx="360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9714-C61D-4A8C-9186-28EDED39CD51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B6F4-C988-4920-9067-0F67911D3FC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4"/>
          </p:nvPr>
        </p:nvSpPr>
        <p:spPr>
          <a:xfrm>
            <a:off x="2685960" y="6356520"/>
            <a:ext cx="374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4F8-675C-41D6-8D1F-81A24D89AC6E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F052-57A3-4AA8-A498-8BACE3287CC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8120" y="6356520"/>
            <a:ext cx="357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B3FC-E2B5-4670-83CB-0DF8218AD8B7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511D-AE01-4695-B2D3-80094285A57C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85A6-757D-4A0A-BE9A-E3B979C5F12C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D21E-EDEC-42D0-9ED9-230D8C37B453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7F9E-F3CE-43BD-94D3-8951EAE9326B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4E8-DBE4-4E86-BF3C-FE7AFF0185A8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778120" y="6356520"/>
            <a:ext cx="35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BF8D-F32A-45C3-96A1-411F1A10BA6F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EFE3-F44B-4F8E-A68D-3C2C5A4ADAB8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587-729F-43EA-86A1-6C56D57203C2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EF9D-633A-4AC9-A026-909FEB0A59C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803320" y="6356520"/>
            <a:ext cx="357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0679-4A9B-45CA-8379-615EA23C0E75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257-8E0F-4BDA-A197-F98FF2118EA9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9564-CB2B-4A2C-95D5-F37EA28DA28C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3"/>
          <a:stretch/>
        </p:blipFill>
        <p:spPr>
          <a:xfrm>
            <a:off x="7178760" y="5280120"/>
            <a:ext cx="1353960" cy="10000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468-E39B-479B-B8E9-C2249A33A67F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2793600" y="635652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Templ ref: PPT-ISO-colour.001   Doc Ref 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74C7-BE26-4B27-9AB2-5BD98DDAC05C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EED4-931F-483F-AA67-166167E90447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AE9-90D4-4856-AAA2-F6D5610696E5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1882800"/>
            <a:ext cx="9144000" cy="21621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000000"/>
                </a:solidFill>
                <a:latin typeface="Calibri"/>
              </a:rPr>
              <a:t>South African Weather Service </a:t>
            </a: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3"/>
          <p:cNvSpPr/>
          <p:nvPr/>
        </p:nvSpPr>
        <p:spPr>
          <a:xfrm>
            <a:off x="2629080" y="4927680"/>
            <a:ext cx="387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Ms. Sam Linn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C86-F79F-4733-9AF3-24B55DE62742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6039-B388-4EA5-8C05-5CD62752133A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35080" y="1211400"/>
          <a:ext cx="8493120" cy="5341680"/>
        </p:xfrm>
        <a:graphic>
          <a:graphicData uri="http://schemas.openxmlformats.org/drawingml/2006/table">
            <a:tbl>
              <a:tblPr/>
              <a:tblGrid>
                <a:gridCol w="6664320"/>
                <a:gridCol w="18288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9059-366B-47AE-A498-AEA89A3EAB3B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BA1A-B654-47AF-81F2-36E59FAE00EC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1"/>
          <a:stretch/>
        </p:blipFill>
        <p:spPr>
          <a:xfrm>
            <a:off x="6967440" y="-6480"/>
            <a:ext cx="2183040" cy="2908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"/>
          <p:cNvPicPr/>
          <p:nvPr/>
        </p:nvPicPr>
        <p:blipFill>
          <a:blip r:embed="rId2"/>
          <a:stretch/>
        </p:blipFill>
        <p:spPr>
          <a:xfrm>
            <a:off x="6551640" y="2757600"/>
            <a:ext cx="2592360" cy="25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67336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6" name="Picture 11" descr=""/>
          <p:cNvPicPr/>
          <p:nvPr/>
        </p:nvPicPr>
        <p:blipFill>
          <a:blip r:embed="rId4"/>
          <a:stretch/>
        </p:blipFill>
        <p:spPr>
          <a:xfrm>
            <a:off x="4959360" y="0"/>
            <a:ext cx="2008080" cy="2778120"/>
          </a:xfrm>
          <a:prstGeom prst="rect">
            <a:avLst/>
          </a:prstGeom>
          <a:ln w="0">
            <a:noFill/>
          </a:ln>
        </p:spPr>
      </p:pic>
      <p:pic>
        <p:nvPicPr>
          <p:cNvPr id="667" name="Content Placeholder 13" descr="Z:\OBSERVATIONS\METADATA\CLS-OBS-METADATA-REGIONS\EAST LONDON\ARS\STUTTERHEIM WRIGGLESWADE\Wriggleswade E to W.JPG"/>
          <p:cNvPicPr/>
          <p:nvPr/>
        </p:nvPicPr>
        <p:blipFill>
          <a:blip r:embed="rId5"/>
          <a:stretch/>
        </p:blipFill>
        <p:spPr>
          <a:xfrm>
            <a:off x="0" y="2887560"/>
            <a:ext cx="2871720" cy="28479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" descr=""/>
          <p:cNvPicPr/>
          <p:nvPr/>
        </p:nvPicPr>
        <p:blipFill>
          <a:blip r:embed="rId6"/>
          <a:stretch/>
        </p:blipFill>
        <p:spPr>
          <a:xfrm>
            <a:off x="2673360" y="0"/>
            <a:ext cx="2270160" cy="31701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samantha.linnerts\AppData\Local\Microsoft\Windows\Temporary Internet Files\Content.Word\north.jpg"/>
          <p:cNvPicPr/>
          <p:nvPr/>
        </p:nvPicPr>
        <p:blipFill>
          <a:blip r:embed="rId7"/>
          <a:stretch/>
        </p:blipFill>
        <p:spPr>
          <a:xfrm>
            <a:off x="2660760" y="2766960"/>
            <a:ext cx="38894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C876-EBA1-4D58-A3E4-A65EBFBDBCD8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FFF1-BD33-4059-9F2F-FB6D2A3320F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AUTOMATED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8" descr="Automated Stations.jpg"/>
          <p:cNvPicPr/>
          <p:nvPr/>
        </p:nvPicPr>
        <p:blipFill>
          <a:blip r:embed="rId1"/>
          <a:stretch/>
        </p:blipFill>
        <p:spPr>
          <a:xfrm>
            <a:off x="0" y="1027080"/>
            <a:ext cx="91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0D63-34FC-49A9-B475-959DF0A12BCC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61DB-EF31-47EC-85E7-D3E5DA5CBD50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MANUAL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anual Stations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5D69-D32B-4588-B6FB-EF53AB10A99C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D17C-B2BA-4479-99CB-04F9E2E96A9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-OSCAR STATION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7" descr="SAWS VS OSCAR.jpg"/>
          <p:cNvPicPr/>
          <p:nvPr/>
        </p:nvPicPr>
        <p:blipFill>
          <a:blip r:embed="rId1"/>
          <a:stretch/>
        </p:blipFill>
        <p:spPr>
          <a:xfrm>
            <a:off x="0" y="1093680"/>
            <a:ext cx="91440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D12A-E83D-465A-A6FF-572E35488781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2E2E-52C4-4542-BCA6-AD57F48EF400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itle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SAWS Surface Observation Network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1052640"/>
          <a:ext cx="9144000" cy="5805360"/>
        </p:xfrm>
        <a:graphic>
          <a:graphicData uri="http://schemas.openxmlformats.org/drawingml/2006/table">
            <a:tbl>
              <a:tblPr/>
              <a:tblGrid>
                <a:gridCol w="2344680"/>
                <a:gridCol w="592200"/>
                <a:gridCol w="865080"/>
                <a:gridCol w="1525680"/>
                <a:gridCol w="615960"/>
                <a:gridCol w="1386000"/>
                <a:gridCol w="18144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on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 of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TS Exchan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CAR Regist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Off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 Non-reporting/ 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Weather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ic 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all S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 Surface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ning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 Ra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 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8FE2-5C49-4766-AB55-E449A0A95A11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C424-E97F-42C9-8AB4-D05B59719A4E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itle 1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345960" y="1246320"/>
            <a:ext cx="50706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7"/>
          <p:cNvSpPr/>
          <p:nvPr/>
        </p:nvSpPr>
        <p:spPr>
          <a:xfrm>
            <a:off x="401760" y="1301760"/>
            <a:ext cx="800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205 stations on OSCAR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86 Stations fully 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9 Non-report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ZA" sz="1800" spc="-1" strike="noStrike">
                <a:solidFill>
                  <a:srgbClr val="000000"/>
                </a:solidFill>
                <a:latin typeface="Arial"/>
              </a:rPr>
              <a:t>SAWS plans to re-open the  some of the closed stations.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enerating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ome information is in hardcopy (To be digitiz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ot all information is available on the OSCAR Por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.g. Senso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0760" y="27716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6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3D2-2A9F-4CC5-ACB4-0DF594CA994F}" type="datetime">
              <a:rPr b="0" lang="en-ZA" sz="1200" spc="-1" strike="noStrike">
                <a:solidFill>
                  <a:srgbClr val="898989"/>
                </a:solidFill>
                <a:latin typeface="Arial"/>
              </a:rPr>
              <a:t>26-07-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0084-CB8E-47E7-BFD0-083B303002EF}" type="slidenum">
              <a:rPr b="0" lang="en-Z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2394000" y="6319800"/>
            <a:ext cx="435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Arial"/>
              </a:rPr>
              <a:t>Templ ref: CRS–CC-PRES-TEMP-003.2</a:t>
            </a:r>
            <a:br>
              <a:rPr sz="1200"/>
            </a:br>
            <a:r>
              <a:rPr b="1" lang="pt-BR" sz="1200" spc="-1" strike="noStrike">
                <a:solidFill>
                  <a:srgbClr val="898989"/>
                </a:solidFill>
                <a:latin typeface="Arial"/>
              </a:rPr>
              <a:t>Doc Ref no:  IIS-PRES-BOARD INDUCTION-29 JUNE 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11:03:38Z</dcterms:created>
  <dc:creator>Heidel</dc:creator>
  <dc:description/>
  <dc:language>en-US</dc:language>
  <cp:lastModifiedBy>Grungehogna</cp:lastModifiedBy>
  <dcterms:modified xsi:type="dcterms:W3CDTF">2018-08-16T11:10:36Z</dcterms:modified>
  <cp:revision>54</cp:revision>
  <dc:subject/>
  <dc:title>PowerPoint Presentation</dc:title>
</cp:coreProperties>
</file>